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86DC-5671-44DE-BF73-A1D464370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98A2-A1F8-4ABD-851A-927B63756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8CC2-B185-4AA0-9CC0-2C993B269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8EC5-2429-4B24-9D1C-ABE9BC0B7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7D37-3D49-4FBB-93B1-EBF8940A4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1B2F-D111-46D1-9F41-74A34DFFD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6E55-8FD3-4612-96ED-08D15E7E2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0D8E-2C3E-4C6D-9BBE-D9D8E8FBC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8454-CDE6-4DB4-B1DB-30F7224F9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9779-912D-42AB-9B52-3AC834692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EB4D-211B-4C8D-847E-896242B66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2AB2-A3CE-4D68-88FC-051BEEB59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997F-78F4-4633-AC59-8E321FBB75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9E17-17E1-4227-8C30-A310AF2450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7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obin and Karen Go Camp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1 – Robin and Karen Put Up the 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2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3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4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5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7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4B5-ED33-479D-88D3-F9D475817B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90360"/>
            <a:ext cx="861048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b5ca9"/>
                </a:solidFill>
                <a:latin typeface="Arial"/>
              </a:rPr>
              <a:t>Ch. 1 – Robin and Karen Put Up the Tent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 beautiful camping spot,” said Karen.  “Let’s put up the tent under this tr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K,” said Robin, and she opened the bag containing the various pieces of the Coleman Easy-Set-Up Dome 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fter laying out all the pieces on the ground like a set of algebra tiles, Karen and Robin realized that the instructions were mi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’re not missing,” said Robin, “they’re in co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62EC-1AC7-49B6-A5FC-479E5A8FAB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 we break the code?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looks like we have to solve a problem or answer a question, and that will give us the key to the instructions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have a choice of two questions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one should we do?”  aske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3F5-20FA-42DC-9978-73D66EF38B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14400" y="2819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.  Solve for 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3378240" y="2622600"/>
                <a:ext cx="16509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TextBox 9"/>
          <p:cNvSpPr/>
          <p:nvPr/>
        </p:nvSpPr>
        <p:spPr>
          <a:xfrm>
            <a:off x="914400" y="3657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.  The fraction       can represent different relationships.   Describe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3197160" y="3460680"/>
                <a:ext cx="308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uk.  I hate fractions.  Let’s do B.  It looks easier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l,” said Robin, “2/5 could mean a linear measure, as in 2/5 of the distance between 0 and 1 on a number li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2/5 could also mean a part-whole relationship as in 2 out of 5 people,” adde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could also mean a part-part relationship as in the ratio of length to width in a rectangle, 2 cm to 5 cm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2057-B183-4305-93E4-DC03F24D88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6840" y="304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 sooner had Robin finished describing the third meaning when the instructions magically decoded themselves and became perfectly cl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fortunately, since they were the instructions to how to set up an above ground swimming pool, they were no help in setting up the 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night fell and it started to rain, Robin and Karen huddled under the tree, holding the tent over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 hope we don’t get hit by lightning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we’d be warm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320-BB23-4890-862A-782ECA572A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e Your Chapt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gs to include in your chap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escription of a dilemma faced by Karen and 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problem to solve or a question to answer, that is related to fractions, that will allow them to solve their dilem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solution to the problem, or answer to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94F4-6D79-40EE-92A1-AB76122CF1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ank You !!!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BC05-18A9-475C-A635-7251B27D32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nd consolidate key learnings from th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71F2-A15B-45CF-B0E2-9DA8CF2BD9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-12 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n’t that fu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ake away from the K-4 and Gr.4-8 ro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t on the experience of being the “tour guide” for our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CCB3-3664-40F8-A5D0-558B9891EB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Lear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read our Key L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4AD-956A-4F22-950C-88B374C125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How I Know I’ve Learned…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take a few minutes to walk around the room, looking at the work, and reading the success criteria on the blue ca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35D-3C19-4C93-A419-6E48912489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ight Bulbs and Puzzle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your learning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ere your Ah-ha moments?  What will you bring to your practice next year? (ic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still puzzling you? (ic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efly jot down your thoughts on a “Light Bulb” and a “Puzzle Piece” and place them on the Learning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6456-7A30-4E75-B4B2-33DBFEBF84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sponse to Light Bulbs and Puzzles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few minutes to walk around the room reading and discussing the “Light Bulbs” and “Puzzles Pieces” with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212B-61E6-462A-8F95-7B44C10E07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hea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some time to think about the next school year.  You may w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in small group discussion around one of the Question Marks or Light Bulbs or any lingering burn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on a resource  related to one of the Light Bul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to explore the camp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2F6D-4B57-4EBA-A326-2B0466F6FA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obin and Karen Go Camp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“Novel in an Hour” strategy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52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ain Character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 Robin and K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E97-7AD7-47A1-A3B9-58682AE542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ular Callout 4"/>
          <p:cNvSpPr/>
          <p:nvPr/>
        </p:nvSpPr>
        <p:spPr>
          <a:xfrm rot="20326200">
            <a:off x="406080" y="2482560"/>
            <a:ext cx="1272960" cy="923760"/>
          </a:xfrm>
          <a:prstGeom prst="wedgeRoundRectCallout">
            <a:avLst>
              <a:gd name="adj1" fmla="val 49222"/>
              <a:gd name="adj2" fmla="val -22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poiler Aler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828800" y="23623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Plot Summar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 Math Camp is finished and Robin and Karen decide to go camping for a few days to relax.  Unfortunately, they face a series of challenging and potentially dangerous situations, and it is only their knowledge of fractions that allows them to emerge triumphant and ready for school in the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7T11:26:25Z</dcterms:modified>
  <cp:revision>46</cp:revision>
  <dc:subject/>
  <dc:title>&lt;Title&gt;</dc:title>
</cp:coreProperties>
</file>